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A80-CFA6-4675-B601-BE517525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870-E875-458F-8A05-E5A88611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27D-744F-41DA-A723-A6703C70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308-D3AA-4DFF-AC5D-3D532819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B105-256C-4659-A775-AFDB2941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10C9-137C-474B-A5DE-D522625B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1BFB-D16E-4A79-A650-97498AFB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5A51-4360-4232-95D7-9662BF91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EBDA-207E-419C-80D3-496EFDF7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6981-9783-49F4-AC66-BC1F3F86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7915-DE6F-494B-B707-CF71E456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06E-1CE1-4007-8955-743A4FFC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0B2F-A425-47DB-9827-5855B75B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F1A6-FD1A-4097-8B7E-4E5B6501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66B3-1DBA-45AB-A7B7-9576B280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461E-0626-4809-8D99-41B602B0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B3D1-9483-4B3E-9651-8C45DA85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6BA-2899-4524-9CD3-9CD00877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F4A-478E-4BA8-AF46-4F76CFAC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4B3-F02F-4BEA-8F29-90AA558A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5AA-539C-4EC7-AF58-4162B9DD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D34-8791-47FE-BA9F-4016BE65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66D-9111-400A-9855-9C782E37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D92-0B55-4DE8-BDF2-410286E8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238F-5676-4504-863C-E8553EEE2E16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743E-A8A8-413E-B485-FFC2B1F81D61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The Autism Inclusion Collaboration Model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Autism Inclusion Collaboration Mod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eated to aid the general ed teacher instructing autistic stude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 compone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vironmental and curricular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ttitudinal and social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ordinated team commit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ome-school collabor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rim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parent, paraprofessional, or teacher previews a lesson with the stud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s can occur the day before the lesson or just prior to i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st effective when built into the student’s routin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hould last 10-15 minutes in a relaxed environ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rompt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prompt is cue for a student to perform a designated behavio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mpts can be physical, verbal, or non-verb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ving a student’s hand to the penci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esturing to wri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riting or verbally asking the student a ques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Environmental and Curricular Suppor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upport personn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mall class siz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fessional developme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dequate teacher plan tim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ttitudinal and Social Suppor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llaboration, understanding, and support must come from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ministrato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achers (special and general ed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autistic stud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student’s pe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oordinated Team Commitmen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fferent learning environments must have similar structur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achers need adequate support to ensure the needs of every student are being m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Home-School Collabora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ducators and parents need to work togeth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kills learned at school need to be reinforced at home and in the commun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echniques for Educator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Visual Suppor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me Ba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im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mpt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Visual Support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utistic students benefit from visual explanations because it allows for greater processing tim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rite down schedules, routines, assignments, and examples for increased comprehens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Home Bas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me base is a place where a student may go to calm himsel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41360" indent="-44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re are many reasons to send a student to home bas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853200" indent="-41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view the day’s ev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53200" indent="-41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scape stress in the classroo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53200" indent="-41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event a meltdow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53200" indent="-41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gain control if a tantrum has occurr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41360" indent="-44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home base is typically a resource roo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udents with all kinds of disabilities can benefit from technolog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ideo-based intervention is becoming increasing popular for autistic learn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ach self-help and on-task skil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videos demonstrate students completing appropriate tas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20:47:01Z</dcterms:created>
  <dc:creator>Amanda Quail</dc:creator>
  <dc:description/>
  <dc:language>en-US</dc:language>
  <cp:lastModifiedBy>Amanda Quail</cp:lastModifiedBy>
  <dcterms:modified xsi:type="dcterms:W3CDTF">2010-06-13T20:50:21Z</dcterms:modified>
  <cp:revision>2</cp:revision>
  <dc:subject/>
  <dc:title>The Autism Inclusion Collaboration Model</dc:title>
</cp:coreProperties>
</file>